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78F-A501-49A1-B011-642F13B7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C88-96E3-46BA-931F-9EA48BD8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04A-47CA-46E4-8E18-BB77F797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00A-431A-4C2A-8364-904805A8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F27-DC41-4CE7-9EBE-3CB20718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AC5-C770-4118-817B-7A2993A3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D84-54AA-4B3D-8A91-889A92B2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357-E71E-4BF1-B9FE-E357CBC9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3594-453A-464C-AEC9-76E894BD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33A-82C8-4DA1-9824-DD8ACE73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AE16-88D3-432B-85F3-BD94BE20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8C9-19C4-469D-B7AB-15BEDB0E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000" y="6381360"/>
            <a:ext cx="55436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B86F-9E89-40B5-95A0-F442BC68EEB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2360" y="4622760"/>
            <a:ext cx="7991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66"/>
                </a:solidFill>
                <a:latin typeface="Arial"/>
              </a:rPr>
              <a:t>la nuova legislazione sulla previdenza complementare                  (d.lgs. 252 del 2005)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96000" y="333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ndo pensione                             PREVILA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7840" y="3333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M CISL – FIOM CGIL – UILM UIL                     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00080" y="354240"/>
            <a:ext cx="5343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ASE 2 : LA GEST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1840" y="2421000"/>
            <a:ext cx="533160" cy="914400"/>
          </a:xfrm>
          <a:prstGeom prst="downArrow">
            <a:avLst>
              <a:gd name="adj1" fmla="val 50000"/>
              <a:gd name="adj2" fmla="val 42876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4292640"/>
            <a:ext cx="21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005c"/>
                </a:solidFill>
                <a:latin typeface="Arial"/>
              </a:rPr>
              <a:t>FONDO PEN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78000" y="4437000"/>
            <a:ext cx="2286000" cy="533520"/>
          </a:xfrm>
          <a:prstGeom prst="rightArrow">
            <a:avLst>
              <a:gd name="adj1" fmla="val 50000"/>
              <a:gd name="adj2" fmla="val 107119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5480" y="177336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Z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4221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ORE                          FINANZ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2708280"/>
            <a:ext cx="533160" cy="914400"/>
          </a:xfrm>
          <a:prstGeom prst="upArrow">
            <a:avLst>
              <a:gd name="adj1" fmla="val 50000"/>
              <a:gd name="adj2" fmla="val 42876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177336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991-E3CA-45C2-97B5-DE67E9EE63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6920" y="330480"/>
            <a:ext cx="7769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ASE 3: LE PRESTAZION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67600" y="4189320"/>
            <a:ext cx="2703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O D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16200" y="2924280"/>
            <a:ext cx="761760" cy="969840"/>
          </a:xfrm>
          <a:prstGeom prst="downArrow">
            <a:avLst>
              <a:gd name="adj1" fmla="val 50000"/>
              <a:gd name="adj2" fmla="val 31829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72520" y="1922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32600" y="1844640"/>
            <a:ext cx="18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RENDITA      CAPI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70520" y="2924280"/>
            <a:ext cx="609840" cy="9144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437000"/>
            <a:ext cx="2232000" cy="838440"/>
          </a:xfrm>
          <a:prstGeom prst="rightArrow">
            <a:avLst>
              <a:gd name="adj1" fmla="val 50000"/>
              <a:gd name="adj2" fmla="val 66552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51800" y="47340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844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ORE FINANZ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4365720"/>
            <a:ext cx="21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005c"/>
                </a:solidFill>
                <a:latin typeface="Arial"/>
              </a:rPr>
              <a:t>FONDO PEN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994-A415-4050-96E7-880DA17A45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393840"/>
            <a:ext cx="7483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 CANALI CONTRIBUTI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11560" y="1700280"/>
            <a:ext cx="3124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AVOR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75160" y="25988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6640" y="3776760"/>
            <a:ext cx="1143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rot="16147200">
            <a:off x="4244040" y="2611440"/>
            <a:ext cx="1143000" cy="761760"/>
          </a:xfrm>
          <a:prstGeom prst="rightArrow">
            <a:avLst>
              <a:gd name="adj1" fmla="val 50000"/>
              <a:gd name="adj2" fmla="val 7503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rot="10789800">
            <a:off x="2708280" y="3789000"/>
            <a:ext cx="990720" cy="533520"/>
          </a:xfrm>
          <a:prstGeom prst="rightArrow">
            <a:avLst>
              <a:gd name="adj1" fmla="val 50000"/>
              <a:gd name="adj2" fmla="val 92856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5920" y="364500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005c"/>
                </a:solidFill>
                <a:latin typeface="Arial"/>
              </a:rPr>
              <a:t>FONDO PEN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4840" y="3789360"/>
            <a:ext cx="2209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ZI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rot="21579600">
            <a:off x="6018840" y="3789000"/>
            <a:ext cx="990360" cy="533520"/>
          </a:xfrm>
          <a:prstGeom prst="rightArrow">
            <a:avLst>
              <a:gd name="adj1" fmla="val 50000"/>
              <a:gd name="adj2" fmla="val 92822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2150-4737-45BC-B457-949F70EAD2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58960" y="176400"/>
            <a:ext cx="7483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E FORME PREVIDENZI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413000"/>
            <a:ext cx="88200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675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e8a"/>
                </a:solidFill>
                <a:latin typeface="Arial"/>
              </a:rPr>
              <a:t>sono riservati ai soggetti che appartengono a gruppi omogen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75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e8a"/>
                </a:solidFill>
                <a:latin typeface="Arial"/>
              </a:rPr>
              <a:t>nel settore del lavoro dipendente, sono creati dalla contrattazione collettiva (Cometa, FondAPI, ec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75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e8a"/>
                </a:solidFill>
                <a:latin typeface="Arial"/>
              </a:rPr>
              <a:t>possono essere nazionali, di Gruppo, aziendali, e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75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e8a"/>
                </a:solidFill>
                <a:latin typeface="Arial"/>
              </a:rPr>
              <a:t>esistono esperienze territoriali anche istituiti da Regioni (es. Trentino A.A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716280"/>
            <a:ext cx="89154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675"/>
              </a:spcBef>
              <a:buClr>
                <a:srgbClr val="b8005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sono promosse direttamente da Assicurazioni, Banche, SIM, S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75"/>
              </a:spcBef>
              <a:buClr>
                <a:srgbClr val="b8005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si realizzano mediante Fondi pensione aperti o polizze vita previdenz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75"/>
              </a:spcBef>
              <a:buClr>
                <a:srgbClr val="b8005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hanno gli stessi vincoli di accesso alle prestazioni dei Fondi colle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75"/>
              </a:spcBef>
              <a:buClr>
                <a:srgbClr val="b8005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sono soggetti anch’essi alla vigilanza della Cov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75"/>
              </a:spcBef>
              <a:buClr>
                <a:srgbClr val="b8005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il dipendente può versare individualmente il TFR a una di queste 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75"/>
              </a:spcBef>
              <a:buClr>
                <a:srgbClr val="b8005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è possibile anche l’adesione collettiva a un Fondo a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32846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e individu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98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ndi chiusi (ad ambito predefini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25A-96F4-4579-97DD-5404688476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55960"/>
            <a:ext cx="807552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66"/>
                </a:solidFill>
                <a:latin typeface="Arial"/>
              </a:rPr>
              <a:t>PRINCIPI DELL’ULTIMA RIFORMA </a:t>
            </a: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(D.LGS. 252/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1484280"/>
            <a:ext cx="828036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Conferimento del TFR alla previdenza complementare:                                                scelta esplicita e tac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Equiparazione delle forme pensionistiche complement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Nuovo regime per prestazioni e anticip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Nuova disciplina fi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Misure compensative per le impr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Vigilanza unificata sotto Covip per tutte le 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2560" y="5157720"/>
            <a:ext cx="81374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66"/>
                </a:solidFill>
                <a:uFillTx/>
                <a:latin typeface="Arial"/>
              </a:rPr>
              <a:t>la Finanziaria 2007 ha anticipato di un anno                      l’operatività della ri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CDC-A02F-433D-B75A-B62B5E4BCB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9280" y="320760"/>
            <a:ext cx="8686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L “SILENZIO ASSENSO” PER IL T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8000" y="1268280"/>
            <a:ext cx="8820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entro il giugno 2007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ciascun lavoratore privato pu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50"/>
              </a:spcBef>
              <a:buClr>
                <a:srgbClr val="cc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50"/>
              </a:spcBef>
              <a:buClr>
                <a:srgbClr val="cc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66"/>
                </a:solidFill>
                <a:latin typeface="Arial"/>
              </a:rPr>
              <a:t>decidere esplicitamente di lasciare il TFR maturando                                    in azienda: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 la scelta è modificabi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125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destinare esplicitamente il TFR ad una forma previdenziale individuale: 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tale scelta ha effetto solo dal momento dell’esplicita adesione  e non si ha diritto all’eventuale contributo Azie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2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66"/>
                </a:solidFill>
                <a:latin typeface="Arial"/>
              </a:rPr>
              <a:t>aderire al fondo negoziale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Cometa, Previlabor, Fondapi, ecc.)                         con effetto dalla data di adesione e in base alle previsioni del contratto/accordo di lavoro (con anche contributo  azienda e da busta pag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1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non fare nulla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(silenzio assenso):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in questo caso il TFR maturato dal </a:t>
            </a:r>
            <a:r>
              <a:rPr b="1" lang="it-IT" sz="1800" spc="-1" strike="noStrike">
                <a:solidFill>
                  <a:srgbClr val="cc0066"/>
                </a:solidFill>
                <a:latin typeface="Arial"/>
              </a:rPr>
              <a:t>1/7/07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 sarà versato al Fondo contrattuale prevalente in azienda (senza però contributo azienda e lavoratore) e finirà su una linea garanti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66"/>
                </a:solidFill>
                <a:latin typeface="Arial"/>
              </a:rPr>
              <a:t>La scelta di trasferire il TFR alla previdenza complementare               non è più modifica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35E-58ED-4BA8-9556-9EB46CCDF2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344880"/>
            <a:ext cx="8229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NFERIMENTO DEL T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3359160"/>
            <a:ext cx="2087640" cy="100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Swis721 Ex BT"/>
              </a:rPr>
              <a:t>il lavoratore esprime la  sua volontà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47640" y="2317680"/>
            <a:ext cx="1656000" cy="754200"/>
            <a:chOff x="1547640" y="2317680"/>
            <a:chExt cx="1656000" cy="754200"/>
          </a:xfrm>
        </p:grpSpPr>
        <p:sp>
          <p:nvSpPr>
            <p:cNvPr id="124" name=""/>
            <p:cNvSpPr/>
            <p:nvPr/>
          </p:nvSpPr>
          <p:spPr>
            <a:xfrm>
              <a:off x="1547640" y="2495520"/>
              <a:ext cx="576360" cy="5763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4360" y="2317680"/>
              <a:ext cx="719280" cy="520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wis721 Ex BT"/>
                </a:rPr>
                <a:t>S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537200" y="4573800"/>
            <a:ext cx="1739160" cy="723600"/>
            <a:chOff x="1537200" y="4573800"/>
            <a:chExt cx="1739160" cy="723600"/>
          </a:xfrm>
        </p:grpSpPr>
        <p:sp>
          <p:nvSpPr>
            <p:cNvPr id="127" name=""/>
            <p:cNvSpPr/>
            <p:nvPr/>
          </p:nvSpPr>
          <p:spPr>
            <a:xfrm flipH="1" rot="10925400">
              <a:off x="1547280" y="4583880"/>
              <a:ext cx="576360" cy="576360"/>
            </a:xfrm>
            <a:custGeom>
              <a:avLst/>
              <a:gdLst>
                <a:gd name="textAreaLeft" fmla="*/ -360 w 576360"/>
                <a:gd name="textAreaRight" fmla="*/ 576360 w 576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11280" y="4776840"/>
              <a:ext cx="8650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Swis721 Ex BT"/>
                </a:rPr>
                <a:t>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843280" y="1341360"/>
            <a:ext cx="5041800" cy="722520"/>
            <a:chOff x="2843280" y="1341360"/>
            <a:chExt cx="5041800" cy="722520"/>
          </a:xfrm>
        </p:grpSpPr>
        <p:sp>
          <p:nvSpPr>
            <p:cNvPr id="130" name=""/>
            <p:cNvSpPr/>
            <p:nvPr/>
          </p:nvSpPr>
          <p:spPr>
            <a:xfrm>
              <a:off x="2843280" y="1487520"/>
              <a:ext cx="630000" cy="57636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67120" y="1341360"/>
              <a:ext cx="4017960" cy="642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wis721 Ex BT"/>
                </a:rPr>
                <a:t>indica la forma pensionistica di destinazione del TF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564000" y="4871880"/>
            <a:ext cx="768240" cy="432000"/>
          </a:xfrm>
          <a:prstGeom prst="rightArrow">
            <a:avLst>
              <a:gd name="adj1" fmla="val 50000"/>
              <a:gd name="adj2" fmla="val 44458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11600" y="4800600"/>
            <a:ext cx="3560760" cy="64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wis721 Ex BT"/>
              </a:rPr>
              <a:t>il TFR affluisce al Fondo contrattuale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905920" y="2424240"/>
            <a:ext cx="4690440" cy="1305000"/>
            <a:chOff x="2905920" y="2424240"/>
            <a:chExt cx="4690440" cy="1305000"/>
          </a:xfrm>
        </p:grpSpPr>
        <p:sp>
          <p:nvSpPr>
            <p:cNvPr id="135" name=""/>
            <p:cNvSpPr/>
            <p:nvPr/>
          </p:nvSpPr>
          <p:spPr>
            <a:xfrm flipH="1" rot="10925400">
              <a:off x="2915640" y="3142440"/>
              <a:ext cx="576000" cy="576360"/>
            </a:xfrm>
            <a:custGeom>
              <a:avLst/>
              <a:gdLst>
                <a:gd name="textAreaLeft" fmla="*/ 0 w 576000"/>
                <a:gd name="textAreaRight" fmla="*/ 576000 w 576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24360" y="3343320"/>
              <a:ext cx="3672000" cy="368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wis721 Ex BT"/>
                </a:rPr>
                <a:t>lascia il TFR all’Azien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40360" y="24242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Swis721 Ex BT"/>
                </a:rPr>
                <a:t>opp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4C8-9B27-4CB2-8F55-C49BA9DDEC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381240"/>
            <a:ext cx="8229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ASI PARTICOL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1341360"/>
            <a:ext cx="8281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Se un lavoratore ha iniziato la propria carriera contributiva prima del 29/04/1993 può scegliere,  in aggiunta alle opzioni 0% - 100%, se versare esplicitamente alla previdenza solo la quota parte del TFR           già prevista dal CCNL (es. metalmeccanici 40%, ec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Se era iscritto a un Fondo, può mantenere l’attuale contrib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N.B.: i dipendenti neo occupati dopo il 29/04/1993 iscritti a un Fondo versano già l’intero T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se in una Azienda operano più fondi “chiusi”,  il TFR versato tramite silenzio assenso affluirà al Fondo stabilito per accordo o, in assenza,  a quello che ha il maggior numero di iscr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39C-FEFB-4171-913B-04131FEF46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59280" y="260280"/>
            <a:ext cx="309528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pendenti privati già assunti al 31/12/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1100160"/>
            <a:ext cx="7128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tro il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3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giugno 2007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3224160"/>
            <a:ext cx="2735280" cy="1483920"/>
          </a:xfrm>
          <a:prstGeom prst="rect">
            <a:avLst/>
          </a:prstGeom>
          <a:noFill/>
          <a:ln w="28440">
            <a:solidFill>
              <a:srgbClr val="b8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8005c"/>
                </a:solidFill>
                <a:latin typeface="Arial"/>
              </a:rPr>
              <a:t>Dal 1 lugli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8005c"/>
                </a:solidFill>
                <a:latin typeface="Arial"/>
              </a:rPr>
              <a:t>L’azienda versa al                  FONDO PENSIONE SCELTO il TFR maturato dal mese successivo a quello                   della sc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4869000"/>
            <a:ext cx="302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8005c"/>
                </a:solidFill>
                <a:latin typeface="Arial"/>
              </a:rPr>
              <a:t>Il TFR matu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8005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b8005c"/>
                </a:solidFill>
                <a:latin typeface="Arial"/>
              </a:rPr>
              <a:t>dal 1° gennaio fino al mese         della scelta resta in az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340000" y="1484280"/>
            <a:ext cx="719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865160"/>
            <a:ext cx="2736720" cy="824040"/>
          </a:xfrm>
          <a:prstGeom prst="rect">
            <a:avLst/>
          </a:prstGeom>
          <a:solidFill>
            <a:srgbClr val="b80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egliere esplicitamente di aderire alla previdenza complemen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3640" y="3213000"/>
            <a:ext cx="2735280" cy="12708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l 1 lugli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’azienda versa al FONDO PENSIONE CONTRATTUALE prevalente  il TFR maturato dal 1 luglio 2007 in ava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4869000"/>
            <a:ext cx="302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Il TFR matu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nel semestre resta in az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7800" y="3068640"/>
            <a:ext cx="2735280" cy="2660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Dal mese successivo alla sc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L’azienda CON ALMENO 50 DIPENDENTI versa al FONDO DI TESORERIA INPS il TFR maturato dal 1° gennaio 2007 in ava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L’azienda CON MENO DI 50 DIPENDENTI mantiene il TFR maturato dal 1° gennaio 2007 in ava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24720" y="26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1833480"/>
            <a:ext cx="2736720" cy="9511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 esprimere nessuna sce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LENZIO ASSE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56360" y="1844640"/>
            <a:ext cx="2736720" cy="8240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egliere esplicitamente di lasciare il TFR all’azie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48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6360" y="148428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B675-91D5-4546-9686-5D744082FB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71640" y="1028880"/>
            <a:ext cx="712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tro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6 mesi dall’assun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997360"/>
            <a:ext cx="2735280" cy="1697040"/>
          </a:xfrm>
          <a:prstGeom prst="rect">
            <a:avLst/>
          </a:prstGeom>
          <a:noFill/>
          <a:ln w="28440">
            <a:solidFill>
              <a:srgbClr val="b8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8005c"/>
                </a:solidFill>
                <a:latin typeface="Arial"/>
              </a:rPr>
              <a:t>Dal mese successivo alla sc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8005c"/>
                </a:solidFill>
                <a:latin typeface="Arial"/>
              </a:rPr>
              <a:t>L’azienda versa al </a:t>
            </a:r>
            <a:r>
              <a:rPr b="1" lang="en-US" sz="1400" spc="-1" strike="noStrike">
                <a:solidFill>
                  <a:srgbClr val="b8005c"/>
                </a:solidFill>
                <a:latin typeface="Arial"/>
              </a:rPr>
              <a:t>FONDO PENSIONE SCELTO</a:t>
            </a:r>
            <a:r>
              <a:rPr b="1" lang="en-US" sz="1400" spc="-1" strike="noStrike">
                <a:solidFill>
                  <a:srgbClr val="b8005c"/>
                </a:solidFill>
                <a:latin typeface="Arial"/>
              </a:rPr>
              <a:t> il TFR maturato dal mese successivo a quello della sc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340000" y="1484280"/>
            <a:ext cx="719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865160"/>
            <a:ext cx="2736720" cy="824040"/>
          </a:xfrm>
          <a:prstGeom prst="rect">
            <a:avLst/>
          </a:prstGeom>
          <a:solidFill>
            <a:srgbClr val="b80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egliere esplicitamente di aderire alla previdenza complemen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3640" y="2997360"/>
            <a:ext cx="2735280" cy="175824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l mese successivo alla scadenza del semes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’azienda versa al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FONDO PENSIONE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NTRATTU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revalente il TFR maturato dal mese successivo alla scadenza del semes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4720" y="2924280"/>
            <a:ext cx="2735280" cy="2660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Dal mese successivo alla sc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L’azienda CON ALMENO 50 DIPENDENTI versa al FONDO DI TESORERIA INPS il TFR maturato dal momento dell’assunzione in ava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L’azienda CON MENO DI 50 DIPENDENTI mantiene il TFR maturato dal momento dell’assunzione in ava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2472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1833480"/>
            <a:ext cx="2736720" cy="9511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 esprimere nessuna sce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LENZIO ASSE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1844640"/>
            <a:ext cx="2736720" cy="8240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egliere esplicitamente di lasciare il TFR all’azie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148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56360" y="148428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189000"/>
            <a:ext cx="3095640" cy="703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pendenti privati assunti dal 01/01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2360" y="5013360"/>
            <a:ext cx="5688000" cy="94140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 TFR maturato dall’assunzione fino al mese della scelta  o fino alla scadenza del sem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  al FONDO DI TESORERIA INPS se l’ azienda ha  almeno 50 dipend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ta all’azienda se ha meno di 50 dipend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63640" y="4724280"/>
            <a:ext cx="36036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40000" y="479736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18E-143B-4F1F-8C4F-20D26D78FC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05120" y="304920"/>
            <a:ext cx="5330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A NORM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2000" y="2349360"/>
            <a:ext cx="766764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d.lgs 124/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l. 335/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d.lgs 47/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d.lgs. 252/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finanziaria 2007 (l. 296/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D. Min. Tesoro 703/96 su investi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D. Min. Lavoro 211/97 su Statuti e requisiti amministr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altre disposizioni di Covip e Agenzia delle Ent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720" y="1341360"/>
            <a:ext cx="80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 normativa in materia di previdenza complementare ha visto un’evoluzione continua dal 1993 ad ogg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F36-B24E-4E5A-9BFE-86EC46E96D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17880" y="315432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81800" y="394020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15640" y="1060560"/>
            <a:ext cx="2052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440" y="765000"/>
            <a:ext cx="288612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IA’ iscritti a Previla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64240" y="765000"/>
            <a:ext cx="288432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 iscritti  a Previla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1600" y="1557360"/>
            <a:ext cx="1689120" cy="94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critti INP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p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l 28/4/1993: versano già tutto il TF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00520" y="1563840"/>
            <a:ext cx="1326960" cy="52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 devono fare nu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520" y="2060640"/>
            <a:ext cx="23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60720" y="1779480"/>
            <a:ext cx="739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41800" y="1996920"/>
            <a:ext cx="23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16880" y="4551480"/>
            <a:ext cx="23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86520" y="3652920"/>
            <a:ext cx="2122560" cy="611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ersare il 40% di TF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al momento della scel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L’altro 60% ►INPS se &gt; 50 Di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86520" y="4335480"/>
            <a:ext cx="2122560" cy="459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% del TFR al F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 momento della scel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01080" y="5654520"/>
            <a:ext cx="1908000" cy="5202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ilenzio assens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FR al F.P. dal 1/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97800" y="5883120"/>
            <a:ext cx="484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15080" y="5295960"/>
            <a:ext cx="23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85080" y="4863960"/>
            <a:ext cx="2124000" cy="52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sciare TFR in Azienda (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►INPS se &gt; 50 Di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1600" y="2860560"/>
            <a:ext cx="1689120" cy="94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scritti INPS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m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del 28/4/1993: versano già il TFR (40%):   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Z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6520" y="3363840"/>
            <a:ext cx="23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54400" y="408456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87680" y="2867040"/>
            <a:ext cx="2020680" cy="672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fermare la stessa quota di TFR (4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ltro 60% ►INPS se &gt; 50 Di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92360" y="3868560"/>
            <a:ext cx="2016000" cy="459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% del TFR al F.P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 momento della scel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08360" y="4575240"/>
            <a:ext cx="1800000" cy="5202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ilenzio assens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FR al F.P. dal 1/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54400" y="3154320"/>
            <a:ext cx="2196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76360" y="48769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24720" y="1854360"/>
            <a:ext cx="31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58160" y="18525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13440" y="1854360"/>
            <a:ext cx="311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58160" y="2500200"/>
            <a:ext cx="190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48600" y="1552680"/>
            <a:ext cx="1860480" cy="52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sciare il TFR in Azienda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►INPS se &gt;50 Dip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248600" y="2214720"/>
            <a:ext cx="1860480" cy="459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% di TFR al F.P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 momento della scel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58160" y="307656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04120" y="2932200"/>
            <a:ext cx="1704960" cy="5202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ilenzio assens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FR al F.P. dal 1/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78320" y="1557360"/>
            <a:ext cx="1635120" cy="733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scritti INPS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op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l 28/4/1993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Z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75280" y="3868560"/>
            <a:ext cx="23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08560" y="3652920"/>
            <a:ext cx="1173240" cy="94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scritti INPS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m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del 28/4/1993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Z.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4080" y="5594400"/>
            <a:ext cx="4441680" cy="641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La scelta di lasciare il TFR in Azienda è modificab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scelta TFR al Fondo non è modificabi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o di silenzio-assenso si perde il contributo Az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41800" y="11318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97800" y="39402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15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SCRITTI E NON ISCRITTI A PREVI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74F-9D7C-4FDD-84FC-0F0C5CA22F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57200" y="273240"/>
            <a:ext cx="8229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L TFR AL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1197000"/>
            <a:ext cx="7848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 versamenti relativi alle nuove adesioni del 2007 affluiranno al Fondo solo dopo il 1° luglio p.v. (anche per la parte di competenza 1/1 – 30/6/20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nel frattempo i Fondi devono infatti adeguarsi alla nuova normativa sulla base delle disposizioni Cov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fluiscono dal 1° luglio anche gli eventuali incrementi del TFR per i lavoratori già iscr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i vecchi Fondi devono mettere in atto gli adeguamenti, sulla base di un emanando apposito Decreto interministeriale, entro il 31 maggio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che per i fondi preesistenti, i contributi potranno affluire da luglio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B19-B5C5-406A-9C04-7737760D4E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45036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LA DEDUCIBILITÀ FISCALE DEI VERSAM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 versamenti sono </a:t>
            </a:r>
            <a:r>
              <a:rPr b="1" lang="en-US" sz="2400" spc="-1" strike="noStrike" u="sng">
                <a:solidFill>
                  <a:srgbClr val="b8005c"/>
                </a:solidFill>
                <a:uFillTx/>
                <a:latin typeface="Arial"/>
              </a:rPr>
              <a:t>oneri deducibil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er un importo annuo </a:t>
            </a:r>
            <a:r>
              <a:rPr b="1" lang="en-US" sz="2400" spc="-1" strike="noStrike" u="sng">
                <a:solidFill>
                  <a:srgbClr val="b8005c"/>
                </a:solidFill>
                <a:uFillTx/>
                <a:latin typeface="Arial"/>
              </a:rPr>
              <a:t>complessivament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on superiore a </a:t>
            </a:r>
            <a:r>
              <a:rPr b="1" lang="en-US" sz="2400" spc="-1" strike="noStrike">
                <a:solidFill>
                  <a:srgbClr val="b8005c"/>
                </a:solidFill>
                <a:latin typeface="Arial"/>
              </a:rPr>
              <a:t>€ 5.164,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B: in questo tetto NON rientra il T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r i familiari a carico, i versamenti sono deducibili dal reddito IRPEF del “capofamiglia” (sempre nel limite complessivo di  € 5.164,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005c"/>
                </a:solidFill>
                <a:latin typeface="Arial"/>
              </a:rPr>
              <a:t>Attenzi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iminato il limite del 12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d il collegamento al TFR per i dipendenti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5157720"/>
            <a:ext cx="806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a deducibilità fiscale è indipendente dalla detrazione di imposta IRPEF del 19%                             per le polizza Vita stipulate ante 01/01/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F1C7-A05E-4349-B0F9-EFBD3C0FF6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3080" y="289080"/>
            <a:ext cx="6118200" cy="10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L VANTAGGIO FISCAL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(FINANZIARIA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53560" y="1701360"/>
            <a:ext cx="7463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0" algn="ctr">
              <a:spcBef>
                <a:spcPts val="451"/>
              </a:spcBef>
              <a:buNone/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ISPARMIO FISCALE = ALIQUOTA MARG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00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DDITO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                               RISPARMIO FI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00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00"/>
              </a:spcBef>
              <a:buClr>
                <a:srgbClr val="b8005c"/>
              </a:buClr>
              <a:buFont typeface="Arial"/>
              <a:buChar char="•"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1" lang="en-US" sz="1600" spc="-1" strike="noStrike">
                <a:solidFill>
                  <a:srgbClr val="b8005c"/>
                </a:solidFill>
                <a:latin typeface="Arial"/>
              </a:rPr>
              <a:t>da  0 a 15.000 eur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3 %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del versa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00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00"/>
              </a:spcBef>
              <a:buClr>
                <a:srgbClr val="b8005c"/>
              </a:buClr>
              <a:buFont typeface="Arial"/>
              <a:buChar char="•"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1" lang="en-US" sz="1600" spc="-1" strike="noStrike">
                <a:solidFill>
                  <a:srgbClr val="b8005c"/>
                </a:solidFill>
                <a:latin typeface="Arial"/>
              </a:rPr>
              <a:t>da 15.000 a 28.000 eur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7 %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del vers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00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00"/>
              </a:spcBef>
              <a:buClr>
                <a:srgbClr val="b8005c"/>
              </a:buClr>
              <a:buFont typeface="Arial"/>
              <a:buChar char="•"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1" lang="en-US" sz="1600" spc="-1" strike="noStrike">
                <a:solidFill>
                  <a:srgbClr val="b8005c"/>
                </a:solidFill>
                <a:latin typeface="Arial"/>
              </a:rPr>
              <a:t>da 28.000 a 55.000 eur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8 %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del vers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00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00"/>
              </a:spcBef>
              <a:buClr>
                <a:srgbClr val="b8005c"/>
              </a:buClr>
              <a:buFont typeface="Arial"/>
              <a:buChar char="•"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1" lang="en-US" sz="1600" spc="-1" strike="noStrike">
                <a:solidFill>
                  <a:srgbClr val="b8005c"/>
                </a:solidFill>
                <a:latin typeface="Arial"/>
              </a:rPr>
              <a:t>da 55.000 a 75.000 eur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1 %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del vers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00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00"/>
              </a:spcBef>
              <a:buClr>
                <a:srgbClr val="b8005c"/>
              </a:buClr>
              <a:buFont typeface="Arial"/>
              <a:buChar char="•"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1" lang="en-US" sz="1600" spc="-1" strike="noStrike">
                <a:solidFill>
                  <a:srgbClr val="b8005c"/>
                </a:solidFill>
                <a:latin typeface="Arial"/>
              </a:rPr>
              <a:t>oltre  75.000 eur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3 %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del vers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DE7-32F4-45A4-AA9D-31C605D5FC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4520" y="426600"/>
            <a:ext cx="777240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SEMPIO N.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3080" y="2133360"/>
            <a:ext cx="734400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451"/>
              </a:spcBef>
              <a:buClr>
                <a:srgbClr val="002e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Età 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35 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2e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Reddito lordo                                       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         € 23.00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2e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2e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Plafond fiscale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b8005c"/>
                </a:solidFill>
                <a:latin typeface="Arial"/>
              </a:rPr>
              <a:t>€ 5.164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2e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Versamento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b8005c"/>
                </a:solidFill>
                <a:latin typeface="Arial"/>
              </a:rPr>
              <a:t>€ 1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2e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Risparmio fiscale (27% di € 1.000)       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b8005c"/>
                </a:solidFill>
                <a:latin typeface="Arial"/>
              </a:rPr>
              <a:t>€    27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2e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Costo effettivo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b8005c"/>
                </a:solidFill>
                <a:latin typeface="Arial"/>
              </a:rPr>
              <a:t>€    73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E4F-72B6-4448-B49D-EC1AF5A625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SEMPIO N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6400" y="2060280"/>
            <a:ext cx="7437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451"/>
              </a:spcBef>
              <a:buClr>
                <a:srgbClr val="002e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Età 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                       50 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2e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Reddito lordo 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  € 32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2e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2e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Plafond fiscale 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b8005c"/>
                </a:solidFill>
                <a:latin typeface="Arial"/>
              </a:rPr>
              <a:t>€ 5.164,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2e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Versamento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b8005c"/>
                </a:solidFill>
                <a:latin typeface="Arial"/>
              </a:rPr>
              <a:t>€ 2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2e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Risparmio fiscale (38% di € 2.000)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b8005c"/>
                </a:solidFill>
                <a:latin typeface="Arial"/>
              </a:rPr>
              <a:t>€    76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2e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Costo effettivo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e8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b8005c"/>
                </a:solidFill>
                <a:latin typeface="Arial"/>
              </a:rPr>
              <a:t>€ 1.24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881-37F8-40E1-88EF-0028C2952C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4874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EL LIMITE DEDUCIBILE RIENTRA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371600"/>
            <a:ext cx="9144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 versamenti al Fondo pensione COLLET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005c"/>
                </a:solidFill>
                <a:latin typeface="Arial"/>
              </a:rPr>
              <a:t>a carico Azienda +  lavorator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97560" y="2438280"/>
            <a:ext cx="838080" cy="838440"/>
          </a:xfrm>
          <a:prstGeom prst="downArrow">
            <a:avLst>
              <a:gd name="adj1" fmla="val 50000"/>
              <a:gd name="adj2" fmla="val 25011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320" y="3443400"/>
            <a:ext cx="914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, per la parte residua, i versamenti per le forme individu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4114800"/>
            <a:ext cx="3048120" cy="1008720"/>
          </a:xfrm>
          <a:prstGeom prst="rect">
            <a:avLst/>
          </a:prstGeom>
          <a:noFill/>
          <a:ln w="9360">
            <a:solidFill>
              <a:srgbClr val="b8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 versamenti per  la previdenza integrativa dei familiari a ca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03160" y="4114800"/>
            <a:ext cx="2819520" cy="1313640"/>
          </a:xfrm>
          <a:prstGeom prst="rect">
            <a:avLst/>
          </a:prstGeom>
          <a:noFill/>
          <a:ln w="9360">
            <a:solidFill>
              <a:srgbClr val="b8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 versamenti per la previdenza             individuale del lavora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333-C4DF-4452-B3F1-31C78185C1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44480" y="455760"/>
            <a:ext cx="748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PER L’AZI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8280" y="1484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è dovuto il contributo di solidarietà del 10% sui versamenti a carico del datore di lavoro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8280" y="3465360"/>
            <a:ext cx="80150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no previsti degli sgravi fiscali e contributivi per l’Azienda sulla parte del TFR versato al Fondo /           all’ IN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’onere gestionale del dialogo con N fondi può diventare molto pes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8280" y="2487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l versamento aziendale è oggi deducibile senza limiti        dal reddito di i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220-F73A-4AB3-8874-81FD37D4DE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49360" y="457560"/>
            <a:ext cx="8055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L REGIME TRIBUTARIO DEI FON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19000" y="1484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005c"/>
                </a:solidFill>
                <a:latin typeface="Arial"/>
              </a:rPr>
              <a:t>il Fondo pensione è soggetto ad una aliquota dell’11% sugli interessi maturati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514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ll’incremento annuo del patrimonio del Fond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4149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l calcolo va fatto posizione per posizione; l’imposta dovuta viene versata entro il 16/2 dell’anno successivo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licata già in fase di accumulo (come i fondi comu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1280" y="32846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ondo il c.d. principio della matu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789-5145-4E3A-BEBB-4AD60F3BCE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48760"/>
            <a:ext cx="777240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E PRESTA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419640" y="1413000"/>
            <a:ext cx="5184720" cy="1511280"/>
            <a:chOff x="3419640" y="1413000"/>
            <a:chExt cx="5184720" cy="1511280"/>
          </a:xfrm>
        </p:grpSpPr>
        <p:sp>
          <p:nvSpPr>
            <p:cNvPr id="242" name=""/>
            <p:cNvSpPr/>
            <p:nvPr/>
          </p:nvSpPr>
          <p:spPr>
            <a:xfrm>
              <a:off x="3419640" y="1413000"/>
              <a:ext cx="5184720" cy="151128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44313"/>
                  </a:srgbClr>
                </a:gs>
                <a:gs pos="100000">
                  <a:srgbClr val="d1d1d1">
                    <a:alpha val="44313"/>
                  </a:srgbClr>
                </a:gs>
              </a:gsLst>
              <a:lin ang="5400000"/>
            </a:gra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35280" y="1700280"/>
              <a:ext cx="48960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’ ovvio dire che la prestazi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incipale di una forma di previdenza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66"/>
                  </a:solidFill>
                  <a:latin typeface="Arial"/>
                </a:rPr>
                <a:t>E’ UNA  PENS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826920" y="3214800"/>
            <a:ext cx="79930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ene convertito in una rendita vitalizia rivalutabile al momento del pension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l diritto alla pensione complementare è subordinato al pensionamento nel sistema pubblico e si ottiene all’età pensionabile con almeno 5 anni di partecipazione al Fo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 arrivo all’età pensionabile con meno di 5 anni di versamento  al fondo posso percepire la prestazione solo sotto forma di capi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234936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Il capitale accumu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0E8-A8C8-4947-A75C-C7B00B68C6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28760" y="354240"/>
            <a:ext cx="6338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L DECRETO 124 DEL 19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0720" y="2565360"/>
            <a:ext cx="8028000" cy="33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natura contrattuale della previdenza complementare per                              i lavoratori dipen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individuazione del TFR come canale preferenziale di finanzi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presenza bilaterale e paritetica (Aziende e lavoratori iscritti)               negli Organi di amministrazione e controllo del Fo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gestione “finanziaria” del patrimo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regole per prestazioni, anticipazioni, riscatti, ec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creazione di una specifica Autorità di controllo (COV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4842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a rappresentato il primo intervento sistematico              sul sett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5BC1-3D09-465C-B422-E736FB392B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1440" y="464760"/>
            <a:ext cx="845820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E PRESTAZIONI PENSIONISTI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 algn="ctr">
              <a:spcBef>
                <a:spcPts val="60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b8005c"/>
                </a:solidFill>
                <a:latin typeface="Arial"/>
              </a:rPr>
              <a:t>RENDITA VITALIZIA RIVALUT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spcBef>
                <a:spcPts val="60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a scelta reversibile) al raggiungimento dei requisi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spcBef>
                <a:spcPts val="224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spcBef>
                <a:spcPts val="60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 prestazione può essere liquidata sotto forma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spcBef>
                <a:spcPts val="60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PI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spcBef>
                <a:spcPts val="60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 massimo FINO AL 50% del matur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spcBef>
                <a:spcPts val="60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spcBef>
                <a:spcPts val="60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00000" y="4076640"/>
            <a:ext cx="7632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IMPORTAN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 il 70% della rendita maturata è inferiore al 50% dell’assegno sociale, la prestazione può essere erogata interamente (100%) come capit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CB8-D0DA-4983-828A-7252E022B98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apitale maturato:                                                        € 5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70% della rendita equivalente (maschio 65 anni):    €   2.363,42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% dell’assegno sociale per l’anno 2006:               €   2.481,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8005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l 70% della rendita è inferiore al 50% dell’assegno soc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8005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uò essere liquidato tutto il capitale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n un’unica soluzione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b8005c"/>
                </a:solidFill>
                <a:latin typeface="Arial"/>
              </a:rPr>
              <a:t>PER I PIANI PREVIDENZIALI DI BREVE DURATA                   L’OBIETTIVO FINALE E’ IL CAPITALE !!!</a:t>
            </a:r>
            <a:r>
              <a:rPr b="0" lang="en-US" sz="2000" spc="-1" strike="noStrike">
                <a:solidFill>
                  <a:srgbClr val="b8005c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A8F-7AA0-49EF-A4CC-73703A8545E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20760"/>
            <a:ext cx="777240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LTRE PRESTAZION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7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ticipazione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b8005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8005c"/>
                </a:solidFill>
                <a:latin typeface="Arial"/>
              </a:rPr>
              <a:t>spese medich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anche coniuge e figli), fino al 75% in qualsiasi mom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b8005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8005c"/>
                </a:solidFill>
                <a:latin typeface="Arial"/>
              </a:rPr>
              <a:t>acquist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anche per i figli) </a:t>
            </a:r>
            <a:r>
              <a:rPr b="1" lang="en-US" sz="2000" spc="-1" strike="noStrike">
                <a:solidFill>
                  <a:srgbClr val="b8005c"/>
                </a:solidFill>
                <a:latin typeface="Arial"/>
              </a:rPr>
              <a:t>o ristrutturazione della prima cas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fino al 75% dopo almeno 8 anni di partecipazi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b8005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8005c"/>
                </a:solidFill>
                <a:latin typeface="Arial"/>
              </a:rPr>
              <a:t>altre esigenze degli iscritt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fino al 30% dopo almeno 8 anni di partecip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quidazione agli eredi in caso di deces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iscatto totale per invalidità permanente assolu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1052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possono essere erogate solo  nei casi consenti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68A-2068-4D7F-A941-15B6CACC145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20760"/>
            <a:ext cx="777240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LTRE PRESTAZION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7880" y="1699920"/>
            <a:ext cx="7432560" cy="37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scatto totale per cessazione di attività o perdita requisiti (dimissio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scatto parziale per cessazione dell’attività lavorativa, fino al 50% dopo 12 mesi di inoccupazione, totale dopo 48 mesi di inoccupazione (fiscalmente agevola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2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sferimento in relazione a nuova attività, in qualsiasi mom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sferimento libero ad altra forma previdenziale, della posizione previdenziale dopo due anni di iscri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1052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possono essere erogate solo  nei casi consenti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420-9F04-4E9E-99C0-4E7DDADF40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108360" y="216000"/>
            <a:ext cx="93963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L TRATTAMENTO FISCALE DEL CAPIT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9640" y="836640"/>
            <a:ext cx="381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quota di</a:t>
            </a:r>
            <a:r>
              <a:rPr b="1" lang="en-US" sz="28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apitale</a:t>
            </a:r>
            <a:r>
              <a:rPr b="1" lang="en-US" sz="28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rrispondente 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3888000" cy="13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contributi versati al fondo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a azienda e lavoratore e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 DEDOT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FR versato al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92720" y="1525680"/>
            <a:ext cx="3457440" cy="134820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è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ggettata ad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imposta sostitutiva del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ridotta di 0,30 per ogni anno oltre al 15° con massimo 6 punti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56000" y="2276640"/>
            <a:ext cx="720720" cy="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1773360"/>
            <a:ext cx="3887640" cy="10969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2924280"/>
            <a:ext cx="3887640" cy="11523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587760"/>
            <a:ext cx="7192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92720" y="3139920"/>
            <a:ext cx="3457440" cy="8254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è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ente da tass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2995560"/>
            <a:ext cx="40338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essi maturati (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già tassati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ibuti versati al fondo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a  azienda e lavoratore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NON DEDOT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4941720"/>
            <a:ext cx="88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 anticipazioni erogate, con l’esclusione di quelle per cure mediche, sono assoggettate a imposta sostitutiva del 2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" y="5511960"/>
            <a:ext cx="87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l riscatto totale per perdita requisiti (dimissioni ecc.) è soggetto a imposta sostitutiva del 2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2200" y="414972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 il capitale liquidabile è composto per il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40% da quota capitale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contributi dedotti e TFR))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e per il 60% da quota interessi  (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 contributi non dedotti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, sarà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 imponibile solo per il 40%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l suo ammon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9F5-0FF9-4205-A058-749510D94F0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39640" y="907920"/>
            <a:ext cx="381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quota di</a:t>
            </a:r>
            <a:r>
              <a:rPr b="1" lang="en-US" sz="28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rendita</a:t>
            </a:r>
            <a:r>
              <a:rPr b="1" lang="en-US" sz="28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rrispondente 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539640" y="1868040"/>
            <a:ext cx="388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contributi versati al fondo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a azienda e lavoratore e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DEDOTTI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FR versato al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1525680"/>
            <a:ext cx="3457440" cy="134820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è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ggettata ad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imposta sostitutiva del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ridotta di 0,30 per ogni anno oltre al 15° con massimo 6 punti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56000" y="2276640"/>
            <a:ext cx="720720" cy="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8360" y="1773360"/>
            <a:ext cx="3887640" cy="10969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9640" y="3124080"/>
            <a:ext cx="403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essi maturati (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già tassati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ibuti versati al fondo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a  azienda e lavoratore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NON DEDOT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360" y="2924280"/>
            <a:ext cx="3887640" cy="11523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7800" y="3516480"/>
            <a:ext cx="718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92720" y="3139920"/>
            <a:ext cx="3457440" cy="8254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è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ente da tass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71640" y="5157720"/>
            <a:ext cx="741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ndiment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ttribuiti annualmente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in fase di erogazione della rendit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ono tassati con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imposta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ostitutiva del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2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-181080" y="269640"/>
            <a:ext cx="968544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IL TRATTAMENTO FISCALE DELLA PENSI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422100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 il montante finale è composto per il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40% da quota capitale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contributi dedotti e TFR))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e per il 60% da quota interessi, (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 contributi non dedotti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, anc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 rendita corrispondente sarà imponibile solo per il 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823-60AB-46CB-830D-3D65C284A0B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39640" y="405000"/>
            <a:ext cx="7920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POSIZIONI ATTIVE AL 31.12.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1219320"/>
            <a:ext cx="7925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005c"/>
                </a:solidFill>
                <a:latin typeface="Arial"/>
              </a:rPr>
              <a:t>sia per i “vecchi” che per i “nuovi” iscritti si applica                 il principio del PRO QU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637000"/>
            <a:ext cx="36576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MONTANTE MATURATO            AL 31.12.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si applica la                precedente normativa (d.lgs. 124/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478400">
            <a:off x="3809880" y="21337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48320" y="2565360"/>
            <a:ext cx="36576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8005c"/>
                </a:solidFill>
                <a:latin typeface="Arial"/>
              </a:rPr>
              <a:t>MONTANTE MATURATO TRA IL 31.12.2000                  E IL 31.12.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8005c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b8005c"/>
                </a:solidFill>
                <a:latin typeface="Arial"/>
              </a:rPr>
              <a:t>si applica la                       precedente normativa  (d.lgs. 47/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20581200">
            <a:off x="4648320" y="21337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26920" y="5084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 la parte maturata dal 2007: nuova normativa per tu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E1E-44D2-4CF6-ABAA-E82F6CA533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03280" y="304920"/>
            <a:ext cx="6338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L DECRETO 124 DEL 19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708280"/>
            <a:ext cx="8099280" cy="28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8a"/>
                </a:solidFill>
                <a:latin typeface="Arial"/>
              </a:rPr>
              <a:t>vecchi e nuovi Fondi:</a:t>
            </a: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                                                                                               vecchi Fondi sono quelli che preesistevano alla norma (in particolare, settore bancario, assicurativo, dirigenti industriali); nuovi quelli nati dopo il 28.4.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8a"/>
                </a:solidFill>
                <a:latin typeface="Arial"/>
              </a:rPr>
              <a:t>vecchi e nuovi iscritti:</a:t>
            </a: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                                                                                       vecchi iscritti sono coloro che erano già iscritti a un Fondo prima del 28.4.93, nuovi tutti gli altr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720" y="14842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ra 2 importanti distinzioni rispetto alla data di entrata in vigore (28 aprile 199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FC2-8F86-4095-89DF-934AC918D3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320760"/>
            <a:ext cx="8304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 FONDI PREESIST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6520" y="11970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 vecchi Fondi sono soggetti ad un regime particol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916280"/>
            <a:ext cx="78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sono iscritti ad una sezione speciale dell’Albo                             dei Fondi pen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possono mantenere la gestione assicu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non possono ampliare la platea dei potenziali ader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nessun obbligo di scheda informativa approvata da Cov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generale snellimento delle forme e delle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405320"/>
            <a:ext cx="784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 Covip ha invitato piu’ volte i “vecchi” Fondi ad adeguarsi ai nuovi modelli gest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è comunque atteso nella prima metà del 2007 uno specifico decreto interministeriale per l’adeguamento alla nuova norm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8B49-402B-46AF-98DA-F582954BFD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484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005c"/>
                </a:solidFill>
                <a:latin typeface="Arial"/>
              </a:rPr>
              <a:t>VECCHI ISCRITT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i soggetti iscritti ad un vecchio Fondo pensione alla data del 28.4.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421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005c"/>
                </a:solidFill>
                <a:latin typeface="Arial"/>
              </a:rPr>
              <a:t>NUOVI ISCRITT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i soggetti iscritti a un Fondo pensione dopo  il 28.4.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393840"/>
            <a:ext cx="8304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E TIPOLOGIE DI ISCRIT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429000"/>
            <a:ext cx="7086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i cui NEOCCUPATI: soggetti che hanno aperto la propria posizione pensionistica pubblica dopo il 28.4.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657600"/>
            <a:ext cx="838080" cy="304920"/>
          </a:xfrm>
          <a:custGeom>
            <a:avLst/>
            <a:gdLst>
              <a:gd name="textAreaLeft" fmla="*/ 130680 w 838080"/>
              <a:gd name="textAreaRight" fmla="*/ 733320 w 8380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3671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la maggiore differenza che rimane oggi tra le 2 categorie consiste nel fatto che ai “vecchi” è consentito ritirare                           la prestazione finale sotto forma di capitale al 10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E77B-EEC5-4F33-80D0-A6E694E9CA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05120" y="304920"/>
            <a:ext cx="5330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A NORM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9440" y="1844640"/>
            <a:ext cx="8099280" cy="21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e8a"/>
                </a:solidFill>
                <a:latin typeface="Arial"/>
              </a:rPr>
              <a:t>sblocca la situazione, consentendo la partenza dei primi fondi chiusi (Fonchim, Cometa, ecc.)  e aper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e8a"/>
                </a:solidFill>
                <a:latin typeface="Arial"/>
              </a:rPr>
              <a:t>migliora la fiscalità dei Fondi, regolamenta gli iter procedurali                  e rafforza il ruolo della Cov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e8a"/>
                </a:solidFill>
                <a:latin typeface="Arial"/>
              </a:rPr>
              <a:t>attribuisce l’esclusiva ai Fondi contrattuali nel settore                              del lavoro dipen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720" y="126828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005c"/>
                </a:solidFill>
                <a:latin typeface="Arial"/>
              </a:rPr>
              <a:t>legge 335 del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9440" y="4508640"/>
            <a:ext cx="745164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prevede la nascita delle polizze previdenz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istituisce l’imposta dell’ 1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e8a"/>
                </a:solidFill>
                <a:latin typeface="Arial"/>
              </a:rPr>
              <a:t>consente la deduzione anche per i familiari a ca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6720" y="407664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005c"/>
                </a:solidFill>
                <a:latin typeface="Arial"/>
              </a:rPr>
              <a:t>decreto 47 del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D04-4D19-4A27-B213-5065BFEA14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828800"/>
            <a:ext cx="64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ossono essere individuate tre f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36760"/>
            <a:ext cx="8304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L FUNZIONAMENTO DEL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852640"/>
            <a:ext cx="41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. contrib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560" y="3716280"/>
            <a:ext cx="5410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2. gestione delle ris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01920" y="458136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005c"/>
                </a:solidFill>
                <a:latin typeface="Arial"/>
              </a:rPr>
              <a:t>3. erogazione delle prest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158-4C16-4A05-AAE8-296A9D435F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03640" y="1916280"/>
            <a:ext cx="25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CC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465480"/>
            <a:ext cx="8642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ASE 1 : LA CONTRIBU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38960" y="2614680"/>
            <a:ext cx="2708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O.SS. lav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4724280"/>
            <a:ext cx="4038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005c"/>
                </a:solidFill>
                <a:latin typeface="Arial"/>
              </a:rPr>
              <a:t>FONDO PEN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21080" y="2637000"/>
            <a:ext cx="153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Z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6880" y="3429000"/>
            <a:ext cx="2368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ONTRIB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306864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35640" y="3068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4005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M - FIOM - UILM Bologna              Fondo pensione PREVILAB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5DF-E734-4F8D-BABE-2ADF699936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0:37:00Z</dcterms:created>
  <dc:creator>Panzera Stefano</dc:creator>
  <dc:description/>
  <dc:language>en-US</dc:language>
  <cp:lastModifiedBy>Pavesi Stefano</cp:lastModifiedBy>
  <dcterms:modified xsi:type="dcterms:W3CDTF">2007-03-08T16:21:12Z</dcterms:modified>
  <cp:revision>69</cp:revision>
  <dc:subject/>
  <dc:title>La Previdenza Complementar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68115633</vt:r8>
  </property>
  <property fmtid="{D5CDD505-2E9C-101B-9397-08002B2CF9AE}" pid="3" name="_AuthorEmail">
    <vt:lpwstr>S.Pavesi@unipol.it</vt:lpwstr>
  </property>
  <property fmtid="{D5CDD505-2E9C-101B-9397-08002B2CF9AE}" pid="4" name="_AuthorEmailDisplayName">
    <vt:lpwstr>PAVESI STEFANO</vt:lpwstr>
  </property>
  <property fmtid="{D5CDD505-2E9C-101B-9397-08002B2CF9AE}" pid="5" name="_EmailSubject">
    <vt:lpwstr>PREVILABOR 14.2.2007.ppt</vt:lpwstr>
  </property>
</Properties>
</file>